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070F-D65E-430B-AE64-58FE68065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2006-C19C-443B-A191-EC94D8F0D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D4B-A31F-4186-88D4-80F5216B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8AF-C438-4C28-9E6B-F20CC73E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A4E-DBEF-4B8B-8526-952C5768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3AF-D643-45B6-B42E-0BE2D01A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989-B460-41BC-948D-D37AD4D1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04A-7FA2-4D27-BEC9-C7A1D88B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223-54E9-47D9-875D-792090EC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D19-B8A2-424F-9BAF-033ED530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BFB-0542-444D-9A30-E3CB8780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0D2-8340-4818-9304-FAFEBB50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8DF-F763-4CAD-A907-7008C9C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FE2-A250-43FF-B1D4-B33DE5BF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4531-25D3-4852-A77C-77A017954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ilene  Mo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ilene Moren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Jailene. Yo vivo en nueva york. Yo tengo catorce años. Yo tengo una hermana y un hermano. Yo soy alta y joven. Mi gusta leer y escrib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llos están felices en la casa con mi herman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días. Mi familia está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á tu famili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6:25Z</dcterms:modified>
  <cp:revision>106</cp:revision>
  <dc:subject/>
  <dc:title>Profile</dc:title>
</cp:coreProperties>
</file>